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bomb.wav" ContentType="audio/x-wav"/>
  <Override PartName="/ppt/media/image6.png" ContentType="image/png"/>
  <Override PartName="/ppt/media/image5.jpeg" ContentType="image/jpeg"/>
  <Override PartName="/ppt/media/cashreg.wav" ContentType="audio/x-wav"/>
  <Override PartName="/ppt/media/image13.jpeg" ContentType="image/jpeg"/>
  <Override PartName="/ppt/media/image12.png" ContentType="image/png"/>
  <Override PartName="/ppt/media/image11.png" ContentType="image/png"/>
  <Override PartName="/ppt/media/applause.wav" ContentType="audio/x-wav"/>
  <Override PartName="/ppt/media/image10.png" ContentType="image/png"/>
  <Override PartName="/ppt/media/chimes.wav" ContentType="audio/x-wav"/>
  <Override PartName="/ppt/media/image8.png" ContentType="image/png"/>
  <Override PartName="/ppt/media/gunshot.wav" ContentType="audio/x-wav"/>
  <Override PartName="/ppt/media/image1.png" ContentType="image/png"/>
  <Override PartName="/ppt/media/drumroll.wav" ContentType="audio/x-wav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2A0-760A-4FC0-8265-9AA2280B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269-C9B6-439E-936D-B49550E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884-394E-4DE0-89B3-5F404233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465-E709-46B8-B3F7-EC06AF71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1A2-D616-49EF-8521-E2152B40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805-6608-4005-8C82-FE236BF6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DF8C-D383-4377-B990-A274040B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7A69-E666-4A64-81FB-499E7CF7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CC2-04D7-43C9-AEBF-D899947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5F61-CCE8-44A3-A19D-93EEA990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6368-ECF0-4D04-A322-CF29C2C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32E-40CD-4FFF-BCE1-A27B8BF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ED49-211D-4B67-946F-38360F3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4C3D-C779-4901-8249-970A76D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150F-C58A-423B-91E2-D33B59B3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F07-A5A5-4C39-BE3F-D2EE2AD9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45F-ED0F-41BE-B929-95A13144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645-E79B-4A01-8376-6D33A7B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4BD-3D48-479E-8C0B-406DF936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E05-3B13-480F-B5F2-3C49AC67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D77-1D7E-4E58-83BA-38A7072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0B4-B11E-4B8E-BF3C-9302D99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55B-2904-428B-84EA-0F316EF2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F00-2F0B-4982-BAAB-D0471BA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F108-C9C3-43F2-A966-62D229758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29D-1D3F-4D82-9888-379876A3B6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magazine.org/supparch/peoct04/ebursts/peoct4.jpg&amp;imgrefurl=http://www.memagazine.org/supparch/peoct04/ebursts/ebursts.html&amp;h=266&amp;w=355&amp;sz=15&amp;tbnid=3nuEA2-fSFd-sM:&amp;tbnh=87&amp;tbnw=117&amp;hl=en&amp;start=17&amp;prev=/im" TargetMode="External"/><Relationship Id="rId2" Type="http://schemas.openxmlformats.org/officeDocument/2006/relationships/hyperlink" Target="http://images.google.com/imgres?imgurl=http://www.memagazine.org/supparch/peoct04/ebursts/peoct4.jpg&amp;imgrefurl=http://www.memagazine.org/supparch/peoct04/ebursts/ebursts.html&amp;h=266&amp;w=355&amp;sz=15&amp;tbnid=3nuEA2-fSFd-sM:&amp;tbnh=87&amp;tbnw=117&amp;hl=en&amp;start=17&amp;prev=/im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alincolnlearning.us/cabinlincolns.jpg&amp;imgrefurl=http://www.alincolnlearning.us/Inlincolnstime.html&amp;h=236&amp;w=449&amp;sz=18&amp;tbnid=-75-9AUtvXo-HM:&amp;tbnh=65&amp;tbnw=124&amp;hl=en&amp;start=1&amp;prev=/images%3Fq%3DLincoln%2527s%2B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bomb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omb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omb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Cornerstone"/>
              </a:rPr>
              <a:t>Abraham Lincol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152640" y="4267080"/>
            <a:ext cx="929628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Presid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9 -18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oln Memor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50496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in 1922. The inscription behind Lincoln’s head read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 this temple, as in the hearts of the people for whom he saved the Union, the memory of Abraham Lincoln is enshrined forev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5 Dollar Bil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7" descr="taxpix as 002"/>
          <p:cNvPicPr/>
          <p:nvPr/>
        </p:nvPicPr>
        <p:blipFill>
          <a:blip r:embed="rId1"/>
          <a:stretch/>
        </p:blipFill>
        <p:spPr>
          <a:xfrm>
            <a:off x="1905120" y="2590920"/>
            <a:ext cx="46479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Born February 12, 18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Grew up in a log cabin in Kentuc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Abe’s family moved to Indiana when he was 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His mother, Nancy died when Abe was 9 years old, sister Sarah was 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Their father remarried the next year.  Abe and Sarah loved their new stepm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6"/>
          <a:stretch/>
        </p:blipFill>
        <p:spPr>
          <a:xfrm>
            <a:off x="457200" y="1523880"/>
            <a:ext cx="40384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e was born in a log cabin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>
            <a:hlinkClick r:id="rId1"/>
          </p:cNvPr>
          <p:cNvSpPr/>
          <p:nvPr/>
        </p:nvSpPr>
        <p:spPr>
          <a:xfrm>
            <a:off x="401472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images.google.com/images?q=tbn:3nuEA2-fSFd-sM:www.memagazine.org/supparch/peoct04/ebursts/peoct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429000"/>
            <a:ext cx="830556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>
            <a:hlinkClick r:id="rId4"/>
          </p:cNvPr>
          <p:cNvSpPr/>
          <p:nvPr/>
        </p:nvSpPr>
        <p:spPr>
          <a:xfrm>
            <a:off x="398160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9" descr="http://images.google.com/images?q=tbn:-75-9AUtvXo-HM:www.alincolnlearning.us/cabinlincolns.jpg"/>
          <p:cNvPicPr/>
          <p:nvPr/>
        </p:nvPicPr>
        <p:blipFill>
          <a:blip r:embed="rId5"/>
          <a:stretch/>
        </p:blipFill>
        <p:spPr>
          <a:xfrm>
            <a:off x="4572000" y="1523880"/>
            <a:ext cx="4038480" cy="1997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http://images.google.com/images?q=tbn:qOrvHGuswmLtOM:www.picturehistory.com/bin/dropshadow.cgi%3Fid%3D9487"/>
          <p:cNvPicPr/>
          <p:nvPr/>
        </p:nvPicPr>
        <p:blipFill>
          <a:blip r:embed="rId6"/>
          <a:stretch/>
        </p:blipFill>
        <p:spPr>
          <a:xfrm>
            <a:off x="380880" y="1457280"/>
            <a:ext cx="3505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e As a Tee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e learned to read and write by him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pent about 1-2 years in sch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night Abe took a book to bed and read by the light of a cand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orrowed books whenever he cou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e’s Adult Lif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21, Abe moved to Illinois, at 22 he went on his 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orked on a flatboat and in a general store.  People called him, “Honest Ab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 studied law books and became a lawy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met and married Mary Todd in 1842, who told him he would be president some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mancipation Proclam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coln was President during the Civil W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ivil War was fought in the U.S. between the North and Sou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ivil War lasted 4 yea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coln in 1863 issu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 Eman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lamation to free the sl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Ford’s Theater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105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oln Gets Assassinated in Ford Theater, Washington D.C.on April 14, 1865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0" y="2171880"/>
            <a:ext cx="8915400" cy="4457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y John Wilkes Boot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038480" cy="4530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574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 died on April 15, 186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just beginning his second term of office as President of the United St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00:59:27Z</dcterms:created>
  <dc:creator>Andrew R. Perrong</dc:creator>
  <dc:description/>
  <dc:language>en-US</dc:language>
  <cp:lastModifiedBy>lyerkes</cp:lastModifiedBy>
  <dcterms:modified xsi:type="dcterms:W3CDTF">2013-02-12T19:04:59Z</dcterms:modified>
  <cp:revision>28</cp:revision>
  <dc:subject/>
  <dc:title>Abraham Lincoln</dc:title>
</cp:coreProperties>
</file>